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9fe"/>
            </a:gs>
            <a:gs pos="100000">
              <a:srgbClr val="a5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272A-8EA4-4182-9B73-4ACF94D3D04D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5760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xt processing in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representation for parsing tex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 to parse natural languag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y to represent grammar ru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ence --&gt; noun_phrase, verb_phr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ntence(X):- append(Y,Z,X),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Y), verb_phrase(Z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r --&gt; [the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[the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guess how to split the sequence, inefficient; let constituent parsers dec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repres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ntence(S0,S):-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S0,S1), verb_phrase(S1,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[the | S],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st argument is sequence to parse and 2nd argument is what is left after removing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 mea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sentence between S0 and S if 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sentence([the, boy, drinks, the, juice], 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noun_phrase([the, boy, drinks, the, juice], R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drinks, the, juice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inite clause grammar (DCG) no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ence --&gt; noun_phrase,verb_phr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ntence(S0,S):- noun_phrase(S0,S1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verb_phrase(S1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r --&gt; [the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determiner([the|S]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nforcing constraints between constitue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we want to enforce number agre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add extra argument to pass this info between constitu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N) --&gt; determiner(N), noun(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singular) --&gt; [boy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plural) --&gt; [boys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singular) --&gt; [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N,[a, boys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N,[a, boy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 = sing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turning a parse tree or interpre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 arguments can also be used to return a parse tree or interpre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np(D,N)) --&gt; determiner(D), noun(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determiner(a)) --&gt; [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noun(boy)) --&gt; [boy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PT,[a, boy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T = np(determiner(a),noun(boy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ding extra te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invoke predicates for tests or interpretation by putting between {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match input tok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accessing a lexic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oun(N,noun(W)) --&gt; [W]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{is_noun(W,N)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s_noun(boy,singula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ammar writing tip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gramma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very mod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hieve broad coverage with small number of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ing a corpus of examples can help design and test gramm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patterns built out of certain types of constitu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&amp; text process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good for analyzing and generating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sing involv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tern-mat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&amp; parse-tree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ata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patterns involv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ny alternati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backtracking is help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eadf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dicates can analyze and gen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12-03T15:19:18Z</cp:lastPrinted>
  <dcterms:modified xsi:type="dcterms:W3CDTF">2018-12-03T15:19:22Z</dcterms:modified>
  <cp:revision>119</cp:revision>
  <dc:subject/>
  <dc:title>Project Gutenberg;text to screen</dc:title>
</cp:coreProperties>
</file>