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7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34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734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87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7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87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734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34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34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734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34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9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5560" y="1371600"/>
            <a:ext cx="87120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90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90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479840" y="3108240"/>
            <a:ext cx="35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8205480" y="6508800"/>
            <a:ext cx="140076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53935-E514-4030-B87A-398CB288AD09}" type="slidenum">
              <a:rPr b="0" lang="en-US" sz="2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5457600" y="6477120"/>
            <a:ext cx="2132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ECS 3401 F 2018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olog Core Concepts and Notation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724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ves Lespér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apted from Peter Roosen-Ru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dings: C &amp; M Ch 1, 2, 3.1-3.3, 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Picture 10" descr="YorkULogoHor(large)"/>
          <p:cNvPicPr/>
          <p:nvPr/>
        </p:nvPicPr>
        <p:blipFill>
          <a:blip r:embed="rId1"/>
          <a:stretch/>
        </p:blipFill>
        <p:spPr>
          <a:xfrm>
            <a:off x="7219800" y="0"/>
            <a:ext cx="192420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list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s are a special kind of term that allows arbitrary number of compon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[]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the empty li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.(a,b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dotted 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[a, b, c] = .(a,.(b,.(c,[]))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list of 3 compon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unctor 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uilds binary tre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use 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display(X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o print internal representation of 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list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refer to the first and rest of a list using the notation: 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[First | Rest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e.g. ?- X = [a,b,c], X = [F|R]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X = [a,b,c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F = 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R = [b,c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E.g. X = [b], Y = a, Z = [Y|X]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X = [b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Y = 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Z = [a,b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unification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was an instance of the kind of pattern matching called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unifica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hat Prolog perfo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log tries to find a way to instantiate the variables (substitute terms for them) that satisfies the que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on this la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erms can represent graph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?- 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X = [a|X]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X = [a, a, a, a, a, a, a, a, a|…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re 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denotes an infinite or circular lis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is not allowed in first-order logic; a variable cannot denote a term and one of its subterms; but Prolog omits the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ccurs check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uilding a knowledge bas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be used in a computation, facts and rules must be stored in the (dynamic) datab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ts and rules get into the database through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sser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onsul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ultation loads facts and rules from a f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ssertion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?- assert(human(ulyssus)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?- human(X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X = ulyss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rtion can be done dynamical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retrac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o remove facts and rules from the D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ke assignment, change state; avoid when pos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nsultation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?- consult(</a:t>
            </a:r>
            <a:r>
              <a:rPr b="0" lang="ja-JP" sz="2800" spc="-1" strike="noStrike">
                <a:solidFill>
                  <a:srgbClr val="063de8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family.pl</a:t>
            </a:r>
            <a:r>
              <a:rPr b="0" lang="ja-JP" sz="2800" spc="-1" strike="noStrike">
                <a:solidFill>
                  <a:srgbClr val="063de8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ads facts and rules from file family.p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?- [family]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es the same th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?- [user]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ts you enter facts and rules from the keybo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enotation/meaning of Prolog program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log program defines a set of relations, i.e. specifies which tuples of objects/terms belong to a particular re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logic, this is called a mod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clarative programming is very different from usual procedural programming where programs perform many state changing ope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enotation of Prolog program e.g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fatherOf(john,paul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fatherOf(mary,paul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motherOf(john,lisa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parentOf(X,Y) :- fatherOf(X,Y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parentOf(X,Y) :- motherOf(X,Y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therOf is the relation {&lt;john,paul&gt;, &lt;mary,paul&gt;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is the relation associated with motherOf and parentOf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ules as procedur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 has form goal :- bod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or head is like name of proced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rms on the RHS are like the body of the procedure, the sub-goals that have to be achieved to show that the goal hol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ub-goals will be attempted left-to-righ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 succeeds if all sub-goals succe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eclarative/logic programming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a: write a program that is a logical theory about some domain and then query 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t well known instance is Prolo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e constructs, terms and statements, are inherited from first order log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assing valu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ing/querying a goal can instantiate its variab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ub-goa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 success can bind a variable within it, also binding the same variable in the go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nding or instantiating a variable is giving it a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are to passing values into or out of a proced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assing values e.g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ume program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motherOf(john,lisa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parentOf(X,Y) :- motherOf(X,Y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eri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?- parentOf(john,X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X = lisa  Y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?- parentOf(X,lisa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X = john Y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?- parentOf(X,Y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X = john, Y = lisa Y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fixed input and output parame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elational thinking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Prolog, formulate statements about function values as relational facts, e.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factorial(0,1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factorial(N,M):- K is N -1, factorial(K,L), 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    M is N * 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compose functions, e.g. Y = f(g(X)), you must name intermediat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fg(X,Y):- g(X,Z), f(Z,Y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lmost everything is syntactically a ter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sts are terms; what is the functo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are term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ndfather(X,Y):- father(X,Z), father(Z,Y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are the functor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ries are t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rithmetic functio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log retains arithmetic functions as functions (more intuitive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?- X </a:t>
            </a:r>
            <a:r>
              <a:rPr b="1" lang="en-US" sz="2400" spc="-1" strike="noStrike">
                <a:solidFill>
                  <a:srgbClr val="063de8"/>
                </a:solidFill>
                <a:latin typeface="Verdana"/>
              </a:rPr>
              <a:t>is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 exp(1). % exp(1) = e</a:t>
            </a:r>
            <a:r>
              <a:rPr b="0" lang="en-US" sz="2400" spc="-1" strike="noStrike" baseline="30000">
                <a:solidFill>
                  <a:srgbClr val="063de8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X = 2.7182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?- X is (4 + 2) * 5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X = 3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does 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mpare with 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ssignmen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operator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me functors are represented by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infi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refi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ostfi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pera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me infix operators: is, =, +, *, /, mod, &gt;, &gt;=,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-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 and - are both prefix and infi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- as prefix is a command, used for decla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s have preced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define our own opera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elp is sometimes helpfu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7680" y="1676520"/>
            <a:ext cx="8437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?- help(reverse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reverse(+List1, -List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Reverse  the order  of the elements  in List1  and unify the  result with the elements of List2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arg: arg is input and should be instantiat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rg: arg is output and can be initially uninstantiated; if the query succeeds, the arg is instantiated with the "output" of the quer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?arg: arg can be either input or outp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online help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?- help(lists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help available for lis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?- apropos(lists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rge/3                       Merge two sorted lis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end/3                      Concatenate lis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tion 11-1                  "lists:  List Manipulation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tion 15-2-1               "list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?- help(append/3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end(?List1, ?List2, ?List3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ucceeds  when List3  unifies with  the concatenation  of List1  a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2.   The  predicate can be  used with any instantiation  patter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even three variables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xampl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?- append([a,b],[c],X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X = [a, b, c]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?- append(X,[c],[a,b,c]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X = [a, b]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?- append([a,b],[c],[a,b,d]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more exampl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?- append([a,b],X,Y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X = _G18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 = [a, b|_G187]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?- append(X,Y,Z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X = [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 = _G18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Z = _G181 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X = [_G262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 = _G18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Z = [_G262|_G181] 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X = [_G262, _G268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 = _G18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Z = [_G262, _G268|_G181]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end is an example of a reversible or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teadfas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predicate (Richard O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Keef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erm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log statements express relationships among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er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rms are (a generalization) of the same notion in first order logic, i.e. a constant, a variable, or a function applied to some argument ter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john, john_smith, X, Node, _person, fatherOf(paul), date(25,10,2005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fatherO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da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e functors; 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da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has arity 3; it takes 3 argu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eversible programming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 predicates are steadfa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gives correct answers even if unusual values are suppl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. g. variables for inputs, constants for outpu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n-steadfast predicates require specific arguments to be instantiated (input) or variables (outpu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unification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log matches terms by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unify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em, i.e. applying a most general unifier to th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instantiates variables as little as possible to make them match, e.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?- X = f(Y,b,Z), X = f(a,V,W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X = f(a, b, _G182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Y = 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Z = _G18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V = 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W = _G18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mily relations exam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amily relatio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atabas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u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parent(Parent, Child) :- mother(Parent, Child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parent(Parent, Child) :- father(Parent, Child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c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father('George', 'Elizabeth'). father('George', 'Margaret'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mother('Mary', 'Elizabeth').  mother('Mary', 'Margaret').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ncoding of disjun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inding all solutio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63de8"/>
                </a:solidFill>
                <a:latin typeface="Verdana"/>
              </a:rPr>
              <a:t>| ?- parent(Parent, Child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63de8"/>
                </a:solidFill>
                <a:latin typeface="Verdana"/>
              </a:rPr>
              <a:t>Parent = 'Mary'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63de8"/>
                </a:solidFill>
                <a:latin typeface="Verdana"/>
              </a:rPr>
              <a:t>Child = 'Elizabeth' 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63de8"/>
                </a:solidFill>
                <a:latin typeface="Verdana"/>
              </a:rPr>
              <a:t>Parent = 'Mary'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63de8"/>
                </a:solidFill>
                <a:latin typeface="Verdana"/>
              </a:rPr>
              <a:t>Child = 'Margaret' 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63de8"/>
                </a:solidFill>
                <a:latin typeface="Verdana"/>
              </a:rPr>
              <a:t>Parent = 'George'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63de8"/>
                </a:solidFill>
                <a:latin typeface="Verdana"/>
              </a:rPr>
              <a:t>Child = 'Elizabeth' 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63de8"/>
                </a:solidFill>
                <a:latin typeface="Verdana"/>
              </a:rPr>
              <a:t>Parent = 'George'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63de8"/>
                </a:solidFill>
                <a:latin typeface="Verdana"/>
              </a:rPr>
              <a:t>Child = 'Margaret' 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63de8"/>
                </a:solidFill>
                <a:latin typeface="Verdana"/>
              </a:rPr>
              <a:t>no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ow prolog finds solutio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trace]  ?-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parent(Parent, Child1), parent(Parent, Child2), not(Child1 = Child2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Call: (8) parent(_G313, _G314) ? cree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Call: (9) mother(_G313, _G314) ? cree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Exit: (9) mother('Mary', 'Elizabeth') ? cree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Exit: (8) parent('Mary', 'Elizabeth') ? cree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Call: (8) parent('Mary', _G317) ? cree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Call: (9) mother('Mary', _G317) ? cree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28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Exit: (9) mother('Mary', 'Elizabeth') ? cree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Exit: (8) parent('Mary', 'Elizabeth') ? cree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do: (9) mother('Mary', _G317) ? cree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Exit: (9) mother('Mary', 'Margaret') ? cree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Exit: (8) parent('Mary', 'Margaret') ? cree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Parent = 'Mary'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Child1 = 'Elizabeth'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Child2 = 'Margaret'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olog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 query answering proces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ery is a conjunction of ter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swer to the query i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f all term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ucce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term in a query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ucceed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matches a fact in the databas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matches the head of a rule whose body succee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ubstitution used to unify the term and the fact/head is applied to the rest of the que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s on query terms in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eft to right ord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; databases facts/rules that match are tried in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p to bottom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ursion ex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generating permutatio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ermutation P of a list L is a list whose first is some element E of L and whose rest is a permutation of L with E remov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[] is a permutation of [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Prolog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permutation([],[]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permutation(L,[E|PR]) :- select(E,L,R), 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permutation(R,PR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electing an element from a lis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select an element from a list, can either select the first leaving the rest, or select some element from the rest and leaving the first plus the unselected elements from the res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Prolog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select(X,[X|R],R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select(X,[Y|R],[Y|RS]):- select(X,R,RS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erm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riables begin with upper-case letter or 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tants and functors (symbols) begin with lower-c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rms denote ob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ound terms are called struc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course(complexity,time(Monday,9,11),lecturer(patrick,dymond),location(LAS,3033)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d to represent complex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rms (usually) have a tree struc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orting by the definition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d a permutation that i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sort(L,P):- permutation(L,P)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ordered(P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ordered([]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ordered([E]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ordered([E1,E2|R]) :- E1 &lt;= E2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ordered([E2|R]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xample of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rate and tes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evers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verse(L,RL) holds if RL is a list with the components of L rever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dinary recursive defin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verse([],[]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verse([F|R],RL):- reverse(R,RR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end(RR, [F], RL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end([],L,L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end([F|R],L,[F|RL]):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end(R,L,RL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evers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il recursive definit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erse(L,RL):- reverse(L,[],RL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erse([],Acc,Acc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erse([F|R],Acc,RL):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erse(R,[F|Acc],RL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ursive call is last thing d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avoid saving calls on st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lving a logic puzzle with Prolo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zebra puzzl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96080" indent="-49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re are 5 houses, occupied by politically-incorrect gentlemen of 5 different nationalities, who all have different coloured houses, keep different pets, drink different drinks, and smoke different  (now-extinct) brands of cigarett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Englishman lives in a red hous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Spaniard keeps a do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owner of the green house drinks coffe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9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ivory house is just to the left of the green hous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9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hesterfields smoker lives next to a house with a fox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9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9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o owns the zebra and who drinks water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olog implementation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 the 5 houses by a structure of 5 t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se(Colour, Nationality, Pet, Drink, Cigarette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a partial structure using variables, to be filled by the solution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fy constraints to instantiate variab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ouse building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makehouses(0,[]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makehouses(N,[house(Col, Nat, Pet, Drk, Cig)|List]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                </a:t>
            </a: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:- N&gt;0, N1 is N - 1, makehouses(N1,List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r more cleanly with anonymous variable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makehouses(N,[house(_, _, _, _, _)|List]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                </a:t>
            </a: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:- N&gt;0, N1 is N - 1, makehouses(N1,List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y is this equivalent? (See p. 159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empty hous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?- makehouses(5, List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List = [house(_G233, _G234, _G235, _G236, _G237), house(_G245, _G246, _G247, _G248, _G249), house(_G257, _G258, _G259, _G260, _G261), house(_G269, _G270, _G271, _G272, _G273), house(_G281, _G282, _G283, _G284, _G285)]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nstraint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64040" indent="-46404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Englishman lives in a red hous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house(red, englishman, _, _, _) on List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040" indent="-46404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Spaniard keeps a do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house( _, spaniard, dog, _, _) on List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040" indent="-46404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owner of the green house drinks coffe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house(green, _, _, coffee, _) on Li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040" indent="-46404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ivory house is just to the left of the green house </a:t>
            </a: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sublist2( [house(ivory,           _,    _,      _,       _) </a:t>
            </a: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,house(green,           _,    _,      _,       _)], List)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040" indent="-46404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hesterfields smoker lives next to a house with a fox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nextto(house(    _,           _,    _,      _, chesterfields)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        </a:t>
            </a: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house(    _,           _,  fox,      _,         _), List)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efining the on operator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user-defined infix operator that is a version of 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member/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:- op(100,zfy,on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X on List :- member(X,List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ounts 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X on [X|_]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X on [_|R]:- X on 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act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ac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e like atomic formulas in first order logi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ntax is same as terms, but ending with a perio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fatherOf(paul,henry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mortal(ulyssus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likes(X,iceCream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likes(mary,brotherOf(helen)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riables are implicitly universally quantifi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dicates for defining constraint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ust to the left o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? 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ves next t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ine 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sublist2(S,L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sublist2([S1, S2], [S1, S2 | _])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sublist2(S, [_ | T]) :- sublist2(S, T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ine 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nextt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edic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nextto(H1, H2, L) :- sublist2([H1, H2], L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nextto(H1, H2 ,L) :- sublist2([H2, H1], L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ranslating the constraint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vory house is just to the left of the green house 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sublist2( [house(ivory,  _,  _,  _, _), 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        house(green,  _,  _,  _,  _)], List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hesterfields smoker lives next to a house with a fox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nextto(house( _, _, _, _, chesterfields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           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house( _, _,  fox,  _, _), List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looking for the zebr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o owns the zebra and who drinks wate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find(ZebraOwner, WaterDrinker) :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makehouses(5, List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house(red, englishman, _, _, _)   on List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… 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% all other constrai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house( _, WaterDrinker, _, water, _)  on List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        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house( _, ZebraOwner, zebra, _, _)  on Li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lution is generated and queried in the same cla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ither water or zebra are mentioned in the constrai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olving the puzzl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?- [zebra]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% zebra compiled 0.00 sec, 5,360 by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?- find(ZebraOwner, WaterDrinker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ZebraOwner = japane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WaterDrinker = norwegian 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ow Prolog finds solution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fter first 8 constraint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List = [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house(red, englishman, snail, _G251, old_gold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house(green, spaniard, dog, coffee, _G264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house(ivory, ukrainian, _G274, tea, _G276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house(green, _G285, _G286, _G287, _G288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house(yellow, _G297, _G298, _G299, kools)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ow Prolog solves the puzzl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n need to satisfy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wner of the third house drinks milk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i.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List = [_, _, house( _, _, _, milk, _),_, _]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 be done with current instantiation of List.  So Prolog will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backtrack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find anoth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ow Prolog solves the puzzl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unique complete solution 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L = [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house(yellow, norwegian, fox, water, kools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house(blue, ukrainian, horse, tea, chesterfields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house(red, englishman, snail, milk, old_gold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house(ivory, spaniard, dog, orange, lucky_strike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house(green, japanese, zebra, coffee, parliaments)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e course web page for code of the examp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ul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ul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re conditional statemen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mortal(X) :- human(X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.e. ∀x Human(x) → Mortal(x)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humans are mort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daughter(X,Y) :- father(Y,X), female(X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conjunc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likes(mary,X) :- isSweet(X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ul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ancestor(X,Y) :-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       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father(X,Z), ancestor(Z,Y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riables are universally quantified from outside; can think of variables that appear only in rule body as existentially quantifi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queri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uery asks whether a given statement is true, i.e. whether it follows from the progra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?- mortal(ulyssus)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giv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mortal(X) :- human(X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human(ulyssus).  human(penelope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god(zeus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log answers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 Y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queri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?- mortal(X).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X = ulyssus 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X = penel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riables in queries are existentially quantified; can be used to retrieve inform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have conjunctive queries, e.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?- mortal(X), mortal(Y), not(X = Y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09T20:05:27Z</dcterms:created>
  <dc:creator>PRR</dc:creator>
  <dc:description/>
  <cp:keywords/>
  <dc:language>en-US</dc:language>
  <cp:lastModifiedBy>Yves Lesperance</cp:lastModifiedBy>
  <cp:lastPrinted>2018-09-17T14:03:13Z</cp:lastPrinted>
  <dcterms:modified xsi:type="dcterms:W3CDTF">2018-09-26T20:19:10Z</dcterms:modified>
  <cp:revision>132</cp:revision>
  <dc:subject/>
  <dc:title>Project Gutenberg;text to screen</dc:title>
</cp:coreProperties>
</file>