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77EA5-49E9-4009-ACC9-6AD8F45A7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C1C9-61FE-4A5A-A7ED-DF87C4D2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10050-80D6-476E-8915-B8AB5BF91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DBD26-AEB0-4FEE-BB34-ECBCB7348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9370-BCE7-4E5C-B342-0E2D6B304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9F3F-973A-4487-B63F-87491145E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478E4-9160-4E04-8E4A-6789EBA0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34D3-2278-4980-B5D7-64B7C86FE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F02B-C761-4D28-B8DD-58850333E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C7EA8-5CCF-469D-A479-F381CDA8D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F35B-464B-45EB-BA44-DFCB7CBD9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EB7BE-FDD0-4308-97E5-72506D4B7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2448E-4F4D-4795-B623-DADCF8787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897E-86E3-4275-8210-2D5315C69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DC7AB-6741-45A6-B68D-DC5DC1F6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11C7-DBC5-4028-A11F-536E00DF9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64165-C433-4329-9FAD-B64C79FE1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112F5-3FCE-4F2D-B7FC-4F5D6909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67E7A-FA96-4FE5-924A-9D8A8DF78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3BDE-1387-40B5-BE64-422F89FFF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1D56F-29D1-4540-98A0-5EF8666F2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2B8CB-06D8-4D64-8717-D299E1FF1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CD520-7E60-4348-83E0-E3292B942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85D53-E915-4C9C-85EE-9C31E7440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72B97-C343-4995-83FC-61E7AD78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60D22-D031-48BB-8B1A-760EFF5DF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D5767-16E7-4EC5-83CF-1742AB7DC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1CB79-9998-4BC7-94EA-DD27A7CA4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60CB-992E-4752-9B47-BB54B03AC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81B35-F091-4A9D-A77E-C536BD483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C0FB-E5EE-45BC-8204-35894E106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C790-FEC1-4C4D-B113-F4189D5CE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7AAC-7CFA-471E-9EA2-42C7F5DE7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7C65-5E89-45EC-8A27-24E87640C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0263-F845-4657-9ECA-46E0443C9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8C86-DDC6-46D4-8BEA-701A968EF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53E9-15F1-4402-B720-D7D7F9203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9460-A8A6-4A11-9CDB-F67ED9005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C516-BC54-4C6C-AA81-730CCCC88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6D71-0A4D-4BAA-BCA6-A62137A94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101B-0A6F-4C1C-BB82-F42BE3D00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51A8-08D0-4309-8E86-4270E13C7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372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C725-B3C1-44DA-A5EA-797B733FE32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24280"/>
            <a:ext cx="413388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41D0-527B-424B-8CE6-61FCFF58BC6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CSE 3401: Intro to AI &amp; LP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 Informed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Required Readings: Chapter 3, Sections 5 and 6, and Chapter 4, Section 1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D5FF-3807-49E6-9EEB-D51ED040234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istency/monotonicity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4056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 a stronger condition than h(n) ≤  h*(n)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monotone/consistent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heuristic satisfies the triangle inequality (for all nodes n1,n2)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h(n1) ≤ c(n1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n2) + h(n2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e that there might be more than one transition (action) between n1 and n2, the inequality must hold for all of th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 we will see, monotonicity implies admissibil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3F0-7604-412D-9C22-F865F3047F8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 behind 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(n) ≤  h*(n) means that the search won’t miss any promising paths.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it really is cheap to get to a goal via n (i.e., both g(n) and h*(n) are low), then f(n) = g(n) + h(n) will also be low, and the search won’t ignore n in favor of more expensive option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can be formalized to show that admissibility implies optimal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E9B-E7BC-4BF4-A12C-596021A3F9C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 behind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h(n1) ≤ c(n1→n2) + h(n2)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says something similar, but in addition one won’t be “locally” mislead. See next exampl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EE03-08FD-4E4D-8CA0-AC9B473C83D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xample: admissible but nonmonotonic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280360" cy="2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80000"/>
              </a:lnSpc>
              <a:spcBef>
                <a:spcPts val="34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 following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s not consistent since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h(n2)&gt;c(n2</a:t>
            </a:r>
            <a:r>
              <a:rPr b="0" lang="en-CA" sz="1400" spc="-1" strike="noStrike">
                <a:solidFill>
                  <a:srgbClr val="000000"/>
                </a:solidFill>
                <a:latin typeface="Lucida Sans Unicode"/>
              </a:rPr>
              <a:t>→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n4)+h(n4). But it is admissible.</a:t>
            </a:r>
            <a:endParaRPr b="0" lang="en-US" sz="1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6040440" y="1774800"/>
            <a:ext cx="792000" cy="5047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5103720" y="24955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103720" y="328788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904080" y="24955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113520" y="443880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57" name="AutoShape 9"/>
          <p:cNvCxnSpPr>
            <a:stCxn id="152" idx="3"/>
            <a:endCxn id="153" idx="7"/>
          </p:cNvCxnSpPr>
          <p:nvPr/>
        </p:nvCxnSpPr>
        <p:spPr>
          <a:xfrm flipH="1">
            <a:off x="5655600" y="2205000"/>
            <a:ext cx="500760" cy="36432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8" name="AutoShape 10"/>
          <p:cNvCxnSpPr>
            <a:stCxn id="152" idx="5"/>
            <a:endCxn id="155" idx="1"/>
          </p:cNvCxnSpPr>
          <p:nvPr/>
        </p:nvCxnSpPr>
        <p:spPr>
          <a:xfrm>
            <a:off x="6716880" y="2205000"/>
            <a:ext cx="282960" cy="364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59" name="AutoShape 11"/>
          <p:cNvCxnSpPr>
            <a:stCxn id="153" idx="4"/>
            <a:endCxn id="154" idx="0"/>
          </p:cNvCxnSpPr>
          <p:nvPr/>
        </p:nvCxnSpPr>
        <p:spPr>
          <a:xfrm>
            <a:off x="5427360" y="2998440"/>
            <a:ext cx="1080" cy="28944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60" name="AutoShape 12"/>
          <p:cNvCxnSpPr>
            <a:stCxn id="161" idx="4"/>
            <a:endCxn id="156" idx="7"/>
          </p:cNvCxnSpPr>
          <p:nvPr/>
        </p:nvCxnSpPr>
        <p:spPr>
          <a:xfrm flipH="1">
            <a:off x="6665400" y="3790800"/>
            <a:ext cx="564480" cy="721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62" name="AutoShape 13"/>
          <p:cNvCxnSpPr>
            <a:stCxn id="154" idx="5"/>
            <a:endCxn id="156" idx="1"/>
          </p:cNvCxnSpPr>
          <p:nvPr/>
        </p:nvCxnSpPr>
        <p:spPr>
          <a:xfrm>
            <a:off x="5656320" y="3718080"/>
            <a:ext cx="552960" cy="79416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63" name="Text Box 14"/>
          <p:cNvSpPr/>
          <p:nvPr/>
        </p:nvSpPr>
        <p:spPr>
          <a:xfrm>
            <a:off x="5730840" y="219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1258920" y="24242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c0128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200</a:t>
            </a:r>
            <a:br>
              <a:rPr sz="1800"/>
            </a:br>
            <a:r>
              <a:rPr b="0" lang="en-CA" sz="1800" spc="-1" strike="noStrike">
                <a:solidFill>
                  <a:srgbClr val="00ae00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cost = 1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24000" y="4149720"/>
            <a:ext cx="55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} → 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1 [200+50=25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2 [200+100=30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2 [100+200=30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 [400+50=45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4 [200+50=25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3 [400+50=45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goal [300+0=30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3 [400+50=450]}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 fi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 optimal path as the heuristic is still admissible.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e are mislead into ignoring n2 until after we expand n1.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6905520" y="328788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66" name="AutoShape 18"/>
          <p:cNvCxnSpPr>
            <a:stCxn id="155" idx="4"/>
            <a:endCxn id="161" idx="0"/>
          </p:cNvCxnSpPr>
          <p:nvPr/>
        </p:nvCxnSpPr>
        <p:spPr>
          <a:xfrm>
            <a:off x="7227360" y="2998440"/>
            <a:ext cx="2520" cy="289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67" name="Text Box 19"/>
          <p:cNvSpPr/>
          <p:nvPr/>
        </p:nvSpPr>
        <p:spPr>
          <a:xfrm>
            <a:off x="7608600" y="25146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2) = 2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626960" y="33512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4) = 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666240" y="2565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1) =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3666240" y="32796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3) =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E52-74EB-4DFC-AADE-F3BE43BE14C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notonicity implies 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Proof: by induction on number of steps to a goal node M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ase case: If n is a goal node, then h(n) = 0 = h*(n), so h(n) ≤ h*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duction step: Assume that h(nk) ≤ h*(nk) if number of steps to goal at nk is at most K. Show that the proposition must hold for nodes nk+1where number of steps to goal is K+1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et nk be the next node along a shortest path from nk+1 to goal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k+1) ≤ c(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k+1) + h(nk), since h is monotone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k) ≤ h*(nk), by induction hypothesis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  h(nk+1) ≤ c(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k+1) + h*(nk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us h(nk+1) ≤ h*(nk+1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goal is unreachable from a node n, then h*(n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and result trivially hold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9BB-90A4-44F0-A7E6-B980C830E5E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The f-values of nodes along a path must be non-decreas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&lt;Start→ n1→ n2…→ nk&gt; be a path. We claim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f(ni) ≤ f(ni+1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(ni) = c(Start→ …→ ni) + h(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≤ c(Start→ …→ ni)  + c(ni→ ni+1) + h(n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c(Start→ …→ ni→ ni+1) + h(n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g(ni+1) + h(ni+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f(ni+1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0F6-DF2E-469E-9B7C-D0ACF232917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f n2 is expanded after n1, then f(n1) ≤  f(n2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n2 was on the frontier when n1 was expanded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-74916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1) ≤ f(n2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wise we would have expanded n2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n2 was added to the frontier after n1’s expansion, then let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e an ancestor of n2 that was present when n1 was being expanded (this could be n1 itself). We have f(n1)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A* chose n1 while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as present in the frontier. Also,  since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along the path to n2, by property 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have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)≤f(n2). So, we have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-74916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1) ≤ f(n2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895-7DE9-4245-8554-E1F8A896A84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When </a:t>
            </a:r>
            <a:r>
              <a:rPr b="0" i="1" lang="en-US" sz="2400" spc="-1" strike="noStrike">
                <a:solidFill>
                  <a:srgbClr val="fc0128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 is expanded every path with lower f-value has already been expande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sume by contradiction that there exists a path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Start, n0, n1, ni-1, ni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 ni+1, …, nk&gt;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&lt; f(n)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n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it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ast expande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od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be on the frontier while n is expanded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) by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they lie along the same pat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) sinc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&lt; f(n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o we hav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i="1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) &lt; f(</a:t>
            </a:r>
            <a:r>
              <a:rPr b="0" i="1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) by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n is expanded before ni+1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Contradiction from b&amp;c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39F9-2737-4AD2-AC01-4E41A569AFC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With a monotone heuristic, the first time A* expands a state, it has found the minimum cost path to that state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Let PATH1 = &lt;Start, n0, n1, …, nk, n&gt; be </a:t>
            </a:r>
            <a:r>
              <a:rPr b="1" lang="en-US" sz="2000" spc="-1" strike="noStrike">
                <a:solidFill>
                  <a:srgbClr val="fc0128"/>
                </a:solidFill>
                <a:latin typeface="Lucida Sans Unicode"/>
              </a:rPr>
              <a:t>the first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path to n found. We have f(path1) = c(PATH1) + h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Let PATH2 = &lt;Start, m0,m1, …, mj, n&gt; be another path to n found later. we have f(path2) = c(PATH2) + h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By property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(3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f(path1) ≤ f(path2)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* hence: c(PATH1) ≤ c(PATH2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594-3ABB-49DE-AA74-2AF7C9A7227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Complet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es, consider a least cost path to a goal node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utionPath = &lt;Start→ n1→ …→ G&gt; with cost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(SolutionPath)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nce each action has a cost ≥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 &gt; 0, there are only a finite number of nodes (paths) that have cos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≤ c(SolutionPath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l of these paths must be explored before any path of cost &gt; c(SolutionPath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 eventually SolutionPath, or some equal cost path to a goal must be expanded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Time and Space complexit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n h(n) = 0, for all n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 is monotone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* becomes uniform-cost search!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can be shown that when h(n) &gt; 0 for some n, the number of nodes expanded can be no larger than uniform-cost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ence the same bounds as uniform-cost apply. (These are worst case bounds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920-FC6F-43DC-8057-6D92997DC69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uninformed search, we don’t try to evaluate which of the nodes on the frontier are most promising. We never “look-ahead” to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in uniform cost search we always expand the cheapest path. We don’t consider the cost of getting to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ten we have some other knowledge about the merit of nodes, e.g., going the wrong direction in Romania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309-AABD-46C0-8CB7-1ED1A236F50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Optimalit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es, by (4) the first path to a goal node must be optimal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ycle Chec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do cycle checking (e.g. using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raph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stead of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Tree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it is still optimal. Because by property (4) we need keep only the first path to a node, rejecting all subsequent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1DA4-488F-420C-BC16-8F46A9F56FA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arch generated by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8804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E26-42A2-4AA5-AD50-409E90AE54C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 without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en “h” is admissible but not monotonic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ime and Space complexity remain the same.  Completeness holds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ptimality still holds (without cycle checking), but need a different argument: don’t know that paths are explored in order of cost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of of optimality (without cycle checking)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ssume the goal path &lt;S,…,G&gt; found by A* has cost bigger than the optimal cost: i.e.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C* &lt; f(G)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re must exists a node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n the optimal path that is still in the frontier. 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e have: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 f(n)=g(n)+h(n)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  <a:ea typeface="Lucida Sans Unicode"/>
              </a:rPr>
              <a:t>≤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g(n)+h*(n)=C*  &lt; f(G)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refore, f(n) must have been selected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before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G by A*. contradiction!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B30-B9AE-41FB-B492-06FEB11DC5C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 without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447560"/>
            <a:ext cx="8294760" cy="20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 longer guaranteed we have found an optimal path to a node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the first tim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e visit it. 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, cycle checking might not preserve optimality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fix this: for previously visited nodes, must remember cost of previous path. If new path is cheaper must explore again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ours of monotonic heuristics don’t hol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66560" y="3860640"/>
            <a:ext cx="85694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pace problem with A* (like breath-first searc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DA* is similar to Iterative Lengthening Search: It puts the newly expanded nodes in the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of frontier! Two new parameters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Lucida Sans Unicode"/>
                <a:ea typeface="ＭＳ Ｐゴシック"/>
              </a:rPr>
              <a:t>curBoun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(any node with a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bigger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f value is discard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Lucida Sans Unicode"/>
                <a:ea typeface="ＭＳ Ｐゴシック"/>
              </a:rPr>
              <a:t>smallestNotExplore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(the smallest f value for discarded nodes in a round)   when frontier becomes empty, the search starts a new round with this bound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71280" y="3500280"/>
            <a:ext cx="89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E3A6-6CF3-4A2E-8CB6-8E1B719A246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e useful technique is to consider an easier problem, and let h(n) be the cost of reaching the goal in the easier problem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8-Puzzle mov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a tile from square A to B if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654200" indent="-45720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is adjacent (left, right, above, below) to B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654200" indent="-45720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 is blank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relax some of these condition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if A is adjacent to B (ignore whether or not position is blank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if B is blank (ignore adjacency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(ignore both conditions)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94C-1694-44F0-8A0E-0EE7D33FC19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196640"/>
            <a:ext cx="8153640" cy="53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#3 leads to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isplaced til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heuristi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solve the puzzle, we need to move each tile into its final posi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umber of moves = number of misplaced tiles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early h(n) = number of misplaced tiles ≤ the h*(n) the cost of an optimal sequence of moves from 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#1 leads to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anhattan distan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heuristic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solve the puzzle we need to slide each tile into its final posi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can move vertically or horizontally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umber of moves = sum over all of the tiles of the number of vertical and horizontal slides we need to move that tile into place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gain h(n) = sum of the manhattan distances ≤ h*(n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6280" indent="-1792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 a real solution we need to move each tile at least that that far and we can only move one tile at a tim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0118-C0F3-4216-958A-33414CD4A75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76360" y="2976480"/>
          <a:ext cx="6767640" cy="1463760"/>
        </p:xfrm>
        <a:graphic>
          <a:graphicData uri="http://schemas.openxmlformats.org/drawingml/2006/table">
            <a:tbl>
              <a:tblPr/>
              <a:tblGrid>
                <a:gridCol w="1201680"/>
                <a:gridCol w="1454400"/>
                <a:gridCol w="2041200"/>
                <a:gridCol w="20703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I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A*(Misplaced)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A*(Manhattan)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47,1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,473,94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5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9,1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,64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465264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 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h1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=Misplaced,   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h2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=Manhattan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Does h2 </a:t>
            </a: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always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 expand less nodes than h1?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Yes! Note that h2 dominates h1, i.e. for all n: h1(n)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≤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h2(n). From this you can prove h2 is faster than h1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Therefore, among several admissible heuristic the one with highest value is the fastest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755640" y="1125360"/>
            <a:ext cx="820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50880" indent="-533520">
              <a:lnSpc>
                <a:spcPct val="10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The optimal cost to nodes in the relaxed problem is an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admissible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heuristic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for the original problem!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8ffd"/>
                </a:solidFill>
                <a:latin typeface="Lucida Sans Unicode"/>
                <a:ea typeface="ＭＳ Ｐゴシック"/>
              </a:rPr>
              <a:t>Proof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: the optimal solution in the original problem is a (</a:t>
            </a:r>
            <a:r>
              <a:rPr b="0" i="1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not necessarily optimal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) solution for relaxed problem, therefore it must be at least as expensive as the optimal solution in the relaxed problem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10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Comparison of IDS and A* (average total nodes expanded ):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8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468E-F872-42C5-9A7D-4153D3A7BBC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464000" cy="25243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Pattern databases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39640" y="4633920"/>
            <a:ext cx="820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By searching </a:t>
            </a:r>
            <a:r>
              <a:rPr b="0" lang="en-US" sz="1800" spc="-1" strike="noStrike">
                <a:solidFill>
                  <a:srgbClr val="fc0128"/>
                </a:solidFill>
                <a:latin typeface="Lucida Sans"/>
              </a:rPr>
              <a:t>backward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rom these goal states, we can compute the distance of any configuration of these tiles to their goal locations. We are ignoring the identity of the other tiles.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any state n, the number of moves required to get these tiles into place form a lower bound on the cost of getting to the goal from n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31080" indent="-5173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dmissible heuristics can also be derived from solution to </a:t>
            </a:r>
            <a:r>
              <a:rPr b="1" lang="en-US" sz="2000" spc="-1" strike="noStrike">
                <a:solidFill>
                  <a:srgbClr val="fc0128"/>
                </a:solidFill>
                <a:latin typeface="Lucida Sans Unicode"/>
              </a:rPr>
              <a:t>subproblems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ach state is mapped into a partial specification, e.g. in 15-puzzle only </a:t>
            </a:r>
            <a:r>
              <a:rPr b="1" i="1" lang="en-US" sz="2000" spc="-1" strike="noStrike">
                <a:solidFill>
                  <a:srgbClr val="333399"/>
                </a:solidFill>
                <a:latin typeface="Lucida Sans Unicode"/>
              </a:rPr>
              <a:t>position of specific tiles matter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39640" y="2224080"/>
            <a:ext cx="4392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Here are goals for two sub-problems (called Corner and Fringe) of 15puzzl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24000" y="1989000"/>
            <a:ext cx="8642160" cy="24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09E-F4FE-4799-93BD-117383203E0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Pattern databases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13924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se configurations are stored in a database, along with the number of moves required to move the tiles into pl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number of moves take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over all of the databas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n be used as a heuristic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 the 15-puzzl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fringe data base yields about a 345 fold decrease in the search tree siz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rner data base yields about 437 fold decreas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me time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isjoint patter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n be found, then the number of moves can b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dd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ather than taking the max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D8F-D8DD-432D-9C0E-9FEAD05809A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Local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 far, we keep the paths to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ome problems (like 8-queens) we don’t care about the path, we only care about the solution. Many real problem like Scheduling, IC design, and network optimizations are of this for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search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gorithms operate using a singl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urrent stat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generally move to neighbors of that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is a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objective fun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tells the value of each state. The goal has the highest value (global maximum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gorithms lik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ill Climbing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y to move to a neighbor with the highest valu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nger of being stuck in a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maximum.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 some randomness can be added to “shake” out of local maxima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DB7-CD7D-4294-A6A7-6679DA02B90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15364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rit of a frontier node: different notions of merit.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we are concerned abou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st of the solu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we might want a notion of merit of how costly it is to get to the goal from that search nod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we are concerned about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minimizing comput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n search we might want a notion of ease in finding the goal from that search nod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will focus on the “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st of solu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” notion of mer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F4CD-DCB1-4654-9911-8175D474CF7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Local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imulated Annealing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ead of the best move, take a random move and if it improves the situation then always accept, otherwise accept with a probability &lt;1. Progressively decrease the probability of accepting such mov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Beam 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like a parallel version of Hill Climbing.  Keeps K states and at each iteration chooses the K best neighbors (so information is shared between the parallel threads).  Also stochastic vers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enetic Algorithm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re similar to Stochastic Local Beam Search, but mainly use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rossov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peration to generate new nodes.  This swaps feature values between 2 parent nodes to obtain children.  This gives a hierarchical flavor to the search: chunks of solutions get combined.  Choice of state representation becomes very important.  Has had wide impact, but not clear if/when better than other approach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22A-8D6E-4315-A58C-81CFB5F800F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dea is to develop a domain specific heuristic function h(n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(n)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guess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e cost of getting to the goal from node n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different ways of guessing this cost in different domains. I.e., heuristics ar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domain specifi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AFD-3947-4A95-B268-622189939A1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vention: If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h(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) &lt; h(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is means that we guess that it is cheaper to get to the goal from 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an from 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require th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(n) = 0 for every node n that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Zero cost of getting to a goal node from a goal no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323-A777-4BAC-BB16-8226872C571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sing only h(n)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Greedy best-first search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153280" cy="22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use h(n) to rank the nodes on ope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ways expand node with lowest h-value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are greedily trying to achieve a low cost solu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owever, this method ignores the cost of getting to n, so it can be lead astray exploring nodes that cost a lot to get to but seem to be close to the goal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5364000" y="3860640"/>
            <a:ext cx="792360" cy="5050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427640" y="458136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4427640" y="53737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6227640" y="4581360"/>
            <a:ext cx="64800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580000" y="587844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15" name="AutoShape 9"/>
          <p:cNvCxnSpPr>
            <a:stCxn id="110" idx="3"/>
            <a:endCxn id="111" idx="7"/>
          </p:cNvCxnSpPr>
          <p:nvPr/>
        </p:nvCxnSpPr>
        <p:spPr>
          <a:xfrm flipH="1">
            <a:off x="4979160" y="4290840"/>
            <a:ext cx="500760" cy="364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6" name="AutoShape 10"/>
          <p:cNvCxnSpPr>
            <a:stCxn id="110" idx="5"/>
            <a:endCxn id="113" idx="1"/>
          </p:cNvCxnSpPr>
          <p:nvPr/>
        </p:nvCxnSpPr>
        <p:spPr>
          <a:xfrm>
            <a:off x="6040080" y="4290840"/>
            <a:ext cx="283320" cy="36432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7" name="AutoShape 11"/>
          <p:cNvCxnSpPr>
            <a:stCxn id="111" idx="4"/>
            <a:endCxn id="112" idx="0"/>
          </p:cNvCxnSpPr>
          <p:nvPr/>
        </p:nvCxnSpPr>
        <p:spPr>
          <a:xfrm>
            <a:off x="4750920" y="5084280"/>
            <a:ext cx="1080" cy="289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8" name="AutoShape 12"/>
          <p:cNvCxnSpPr>
            <a:stCxn id="113" idx="4"/>
            <a:endCxn id="114" idx="7"/>
          </p:cNvCxnSpPr>
          <p:nvPr/>
        </p:nvCxnSpPr>
        <p:spPr>
          <a:xfrm flipH="1">
            <a:off x="6132240" y="5084640"/>
            <a:ext cx="419760" cy="86760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9" name="AutoShape 13"/>
          <p:cNvCxnSpPr>
            <a:stCxn id="112" idx="5"/>
            <a:endCxn id="114" idx="1"/>
          </p:cNvCxnSpPr>
          <p:nvPr/>
        </p:nvCxnSpPr>
        <p:spPr>
          <a:xfrm>
            <a:off x="4979880" y="5803920"/>
            <a:ext cx="696240" cy="148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20" name="Text Box 14"/>
          <p:cNvSpPr/>
          <p:nvPr/>
        </p:nvSpPr>
        <p:spPr>
          <a:xfrm>
            <a:off x="5054760" y="428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826920" y="386064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ae00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1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c0128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1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7020000" y="45752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(n3) = 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91636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(n1) = 2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29F-07B0-4C0C-9967-13E66331551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*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09980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ake into account the cost of getting to the node as well as our estimate of the cost of getting to the goal from 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n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f(n) = g(n) + h(n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(n) is the cost of the path to node n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) is the heuristic estimate of the cost of getting to a goal node from n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w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lways expand the node with lowest f-value on the fronti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f-value is an estimate of the cost of getting to the goal via this node (path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3C85-B954-4D2F-AFEF-865A52D6069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ditions on h(n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want to analyze the behavior of the resultant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, time and space, optimality?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obtain such results we must put some further conditions on the heuristic function h(n) and the search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DC9-6C28-4060-B488-CAD79E0412B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ditions on h(n): Admissib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(n1→ n2) ≥ </a:t>
            </a:r>
            <a:r>
              <a:rPr b="0" lang="el-GR" sz="28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&gt; 0. The cost of any transition is greater than zero and can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 be arbitrarily smal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Let h*(n) be the cost of an optimal path from n to a goal nod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there is no path). Then an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uristic satisfies the cond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(n) ≤  h*(n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lways underestimates of the true co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enc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(g) = 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any goal node “g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0:43Z</dcterms:created>
  <dc:creator>Fahiem Bacchus</dc:creator>
  <dc:description/>
  <dc:language>en-US</dc:language>
  <cp:lastModifiedBy>Yves Lesperance</cp:lastModifiedBy>
  <cp:lastPrinted>2018-10-27T22:09:29Z</cp:lastPrinted>
  <dcterms:modified xsi:type="dcterms:W3CDTF">2018-10-27T22:09:43Z</dcterms:modified>
  <cp:revision>97</cp:revision>
  <dc:subject/>
  <dc:title>CSC384: Intro to Artificial Intelligence  Sept 21st 2004 </dc:title>
</cp:coreProperties>
</file>