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220CED-6A66-4126-9706-EABB89AF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BBF699-421E-4005-947E-A750CC59D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577BFAF-D235-4533-A1F7-C1153D1E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2C8CA8F-9265-40B4-ABFF-F5BA0189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E1CE12-C420-4CFE-AA4F-C7A86F55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E6B2E6-E893-4E6F-9FF0-C92BC5EE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54C99B-D30E-4783-923D-4DB93C13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426575-381E-413E-AB9C-3BDFCFCD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6E8641-F455-40F0-B42D-5C01E6B5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A52A890-88DD-4EBA-BED2-D56517BC7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581B50-D31C-46E1-B634-6742C100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04A46B-646E-43D8-B6A0-E2A5B7FC6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5357C8-D2D4-4DA6-815A-BAF3279A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6FF917-32AC-4093-9648-99ED4C460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89B5A8C-02E2-4402-8AC5-90BB85CB4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841C3F-5F0B-4196-8C05-AF2BDC5CD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4D85F1-E9C0-4F31-A3E5-B77F8BF9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DB26011-2D96-4657-B77C-A8421D03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0DDDF6-A455-4F1B-989E-2F6C345B4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A63B47-8B8D-42DB-8E11-EABDAB8C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C4FC12C-A666-4A22-9BAC-DE940C47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EEAE66C-FCCF-4BA2-BC4C-5F64DF4A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F58929-472D-40AC-A224-5655DFAFB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C6669F-9016-47A8-8A67-57040163C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E1B142-6AB8-4073-98F5-449EE75B8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2BE5B4-469A-4B91-9EE8-BBB3279FA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2169-D204-4FA6-B85F-7BA5F96FE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0EFA-853C-48EC-9ACD-0A8994724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A9D0-6C3E-4880-A267-025F7AF8D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2CD6-32AC-4A5D-B52F-FC50B2C24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0401-86B4-4D91-86D6-A7E99EA01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0381-45D2-436F-A0EF-C838EE8DF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7113-CCE0-4A21-88C0-EE05CFE0F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3DDD-190E-40C5-9CC4-D83BCA2C6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BBE4-46E0-40DA-8A75-C2B685849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36DB-5BD6-40F3-8856-E65DE6F11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5582-B84D-4883-A009-DFC5E4182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588D-034D-411D-8B0C-8EAA33006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16120" indent="-436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49200" indent="-4284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612800" indent="-36180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974960" indent="-344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974960" indent="-34452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974960" indent="-34452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8400" y="6411960"/>
            <a:ext cx="4636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f5f5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044A-BBF5-4463-8915-EE636FA1FD5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logo"/>
          <p:cNvPicPr/>
          <p:nvPr/>
        </p:nvPicPr>
        <p:blipFill>
          <a:blip r:embed="rId2"/>
          <a:stretch/>
        </p:blipFill>
        <p:spPr>
          <a:xfrm>
            <a:off x="0" y="0"/>
            <a:ext cx="828720" cy="4190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16120" indent="-436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49200" indent="-4284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612800" indent="-36180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974960" indent="-344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974960" indent="-34452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974960" indent="-34452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5440-AECC-4EC9-94B9-6C605C0F6B9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17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CSE 3401: Intro to AI &amp; Logic Prog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Planning as Heuristic Search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8600" y="144792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49200" y="1371600"/>
            <a:ext cx="848988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adings: Russell &amp; Norvig 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Lucida Sans Unicode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edition Chapter 10 (in 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Lucida Sans Unicode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edition, Sections 11.1, 11.2, and 11.4)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C0F5-DFEE-4093-B150-5C151D3E383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TRIPS Blocks World Operator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ickup(X)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:  {clear(X), ontable(X), handempty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d: {holding(X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l:  {clear(X), ontable(X), handempty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utdown(X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:  {holding(X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d: {clear(X), ontable(X), handempty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l:  {holding(X)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0791-0E42-42A1-BF88-9BC709D28FE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TRIPS Blocks World Operator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unstack(X,Y)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:  {clear(X), on(X,Y), handempty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d: {holding(X), clear(Y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l:  {clear(X), on(X,Y), handempty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tack(X,Y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:  {holding(X),clear(Y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d: {on(X,Y), handempty, clear(X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l:  {holding(X),clear(Y)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D21C-D57F-4F24-941F-939C730B481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62120" y="15238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62120" y="19810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762120" y="2438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47920" y="2438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1" name="Line 7"/>
          <p:cNvSpPr/>
          <p:nvPr/>
        </p:nvSpPr>
        <p:spPr>
          <a:xfrm flipV="1">
            <a:off x="137160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137160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198108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1676520" y="1219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04920" y="3200400"/>
            <a:ext cx="16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2208960" y="320040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ck(a,b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up(d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5486400" y="1905120"/>
            <a:ext cx="4572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4724280" y="2133720"/>
            <a:ext cx="4572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4724280" y="25909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1" name="Line 17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5410080" y="1752480"/>
            <a:ext cx="6098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4" name="Line 20"/>
          <p:cNvSpPr/>
          <p:nvPr/>
        </p:nvSpPr>
        <p:spPr>
          <a:xfrm flipV="1">
            <a:off x="5715000" y="13716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580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289548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4572000" y="3276720"/>
            <a:ext cx="1600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d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holding(a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clear(b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holding(d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4724280" y="16002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6248520" y="1905120"/>
            <a:ext cx="4572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6172200" y="175212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1" name="Line 27"/>
          <p:cNvSpPr/>
          <p:nvPr/>
        </p:nvSpPr>
        <p:spPr>
          <a:xfrm>
            <a:off x="6172200" y="1752480"/>
            <a:ext cx="6094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6781680" y="175248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3" name="Line 29"/>
          <p:cNvSpPr/>
          <p:nvPr/>
        </p:nvSpPr>
        <p:spPr>
          <a:xfrm flipV="1">
            <a:off x="6477120" y="13716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4" name="Line 30"/>
          <p:cNvSpPr/>
          <p:nvPr/>
        </p:nvSpPr>
        <p:spPr>
          <a:xfrm flipV="1">
            <a:off x="6934320" y="175212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6934320" y="1752480"/>
            <a:ext cx="6094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7543800" y="175248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7" name="Line 33"/>
          <p:cNvSpPr/>
          <p:nvPr/>
        </p:nvSpPr>
        <p:spPr>
          <a:xfrm flipV="1">
            <a:off x="7238880" y="13716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6324480" y="44956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not a state!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594360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5B7E-C815-457D-A7B1-12F5077E136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0880" y="1523880"/>
            <a:ext cx="1600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ing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ing(d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85800" y="4800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666880" y="1523880"/>
            <a:ext cx="1905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down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down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ck(a,b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tack(a,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ck(d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ck(d,a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pickup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stack(b,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81952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4888-A22B-42F8-B5AF-1A00B973D04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8480" indent="-2584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 continue until the goal G is contained in the state layer, or until the state layer no longer changes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ntuitively, the actions at level 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are the actions that could be executed at the i-th step of some plan, and the facts in level 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are the facts that could be made true after some i-1 step pla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ome of the actions/facts have this property. But not all!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F2FB-D3F3-4CA9-9F3A-074EA6D91DD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2120" y="19810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62120" y="2438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447920" y="2438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7" name="Line 6"/>
          <p:cNvSpPr/>
          <p:nvPr/>
        </p:nvSpPr>
        <p:spPr>
          <a:xfrm flipV="1">
            <a:off x="137160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37160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198108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0" name="Line 9"/>
          <p:cNvSpPr/>
          <p:nvPr/>
        </p:nvSpPr>
        <p:spPr>
          <a:xfrm flipV="1">
            <a:off x="1676520" y="1219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4920" y="3200400"/>
            <a:ext cx="16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751760" y="320040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ck(a,b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up(c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8580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43828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962520" y="1828800"/>
            <a:ext cx="1600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holding(a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clear(b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holding(c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26708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509800" y="32004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ck(c,b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617220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7315200" y="18288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on(c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6629400" y="3733920"/>
            <a:ext cx="2286000" cy="2895480"/>
          </a:xfrm>
          <a:prstGeom prst="wedgeEllipseCallout">
            <a:avLst>
              <a:gd name="adj1" fmla="val -68541"/>
              <a:gd name="adj2" fmla="val -54277"/>
            </a:avLst>
          </a:prstGeom>
          <a:solidFill>
            <a:srgbClr val="aed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but stack(c,b) cannot be executed after one step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5715000" y="304920"/>
            <a:ext cx="3124080" cy="1447560"/>
          </a:xfrm>
          <a:prstGeom prst="wedgeEllipseCallout">
            <a:avLst>
              <a:gd name="adj1" fmla="val 28050"/>
              <a:gd name="adj2" fmla="val 72916"/>
            </a:avLst>
          </a:prstGeom>
          <a:solidFill>
            <a:srgbClr val="aed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on(c,b) needs 4 actions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23A6-EDBE-4508-8916-6D2CCEA19F1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Heuristics from Reachability Analysi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Grow the levels until the goal is contained in the final state level S[K]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If the state level stops changing and the goal is not present. The goal is unachievable. (The goal is a set of positive facts, and in STRIPS all preconditions are positive facts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Now do the following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4FEE-ED48-44DD-AE25-1FFC287D158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Heuristics from Reachability Analysi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6320" y="1153800"/>
            <a:ext cx="8326440" cy="507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CountActions(G,S</a:t>
            </a:r>
            <a:r>
              <a:rPr b="0" lang="en-CA" sz="2400" spc="-1" strike="noStrike" baseline="-25000">
                <a:solidFill>
                  <a:srgbClr val="003366"/>
                </a:solidFill>
                <a:latin typeface="Lucida Sans Unicode"/>
              </a:rPr>
              <a:t>K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)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/* Compute the number of actions contained in a relaxed plan achieving the goal. */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Split G into facts in S</a:t>
            </a:r>
            <a:r>
              <a:rPr b="0" lang="en-CA" sz="2400" spc="-1" strike="noStrike" baseline="-25000">
                <a:solidFill>
                  <a:srgbClr val="003366"/>
                </a:solidFill>
                <a:latin typeface="Lucida Sans Unicode"/>
              </a:rPr>
              <a:t>K-1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and elements in S</a:t>
            </a:r>
            <a:r>
              <a:rPr b="0" lang="en-CA" sz="2400" spc="-1" strike="noStrike" baseline="-25000">
                <a:solidFill>
                  <a:srgbClr val="003366"/>
                </a:solidFill>
                <a:latin typeface="Lucida Sans Unicode"/>
              </a:rPr>
              <a:t>K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only. These sets are the previously achieved and just achieved parts of G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Find a </a:t>
            </a:r>
            <a:r>
              <a:rPr b="0" lang="en-CA" sz="2400" spc="-1" strike="noStrike">
                <a:solidFill>
                  <a:srgbClr val="fc0128"/>
                </a:solidFill>
                <a:latin typeface="Lucida Sans Unicode"/>
              </a:rPr>
              <a:t>minimal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set of actions A whose add-effects cover the just achieved part of G. (The set contains no redundant actions, but it might not be the minimum sized set.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Replace the just achieved part of G with the preconditions of A, call this updated G, NewG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Now return CountAction(NewG,S</a:t>
            </a:r>
            <a:r>
              <a:rPr b="0" lang="en-CA" sz="2400" spc="-1" strike="noStrike" baseline="-25000">
                <a:solidFill>
                  <a:srgbClr val="003366"/>
                </a:solidFill>
                <a:latin typeface="Lucida Sans Unicode"/>
              </a:rPr>
              <a:t>K-1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) + number of actions needed to cover the just achieved part of G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12F2-9EA7-4520-BF22-917EB45033A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181480" y="1279440"/>
            <a:ext cx="3848400" cy="4533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ountActs(G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50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already in S1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  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New in S2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 = {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  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adds all in G</a:t>
            </a:r>
            <a:r>
              <a:rPr b="1" lang="en-US" sz="1800" spc="-1" strike="noStrike" baseline="-25000">
                <a:solidFill>
                  <a:srgbClr val="919191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the new goal: G</a:t>
            </a:r>
            <a:r>
              <a:rPr b="1" lang="en-US" sz="1800" spc="-1" strike="noStrike" baseline="-25000">
                <a:solidFill>
                  <a:srgbClr val="919191"/>
                </a:solidFill>
                <a:latin typeface="Lucida Sans Unicode"/>
              </a:rPr>
              <a:t>P  </a:t>
            </a:r>
            <a:r>
              <a:rPr b="1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 Pre(A)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turn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1 + CountActs(G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0800" y="914040"/>
            <a:ext cx="484956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Lucida Sans Unicode"/>
              </a:rPr>
              <a:t>legend: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Lucida Sans Unicode"/>
              </a:rPr>
              <a:t>[pre]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Lucida Sans Unicode"/>
              </a:rPr>
              <a:t>act</a:t>
            </a:r>
            <a:r>
              <a:rPr b="0" lang="en-US" sz="2800" spc="-1" strike="noStrike" u="sng">
                <a:solidFill>
                  <a:srgbClr val="00ae00"/>
                </a:solidFill>
                <a:uFillTx/>
                <a:latin typeface="Lucida Sans Unicode"/>
              </a:rPr>
              <a:t>[add]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 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 = {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,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,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We split G into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and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5" name="Line 5"/>
          <p:cNvSpPr/>
          <p:nvPr/>
        </p:nvSpPr>
        <p:spPr>
          <a:xfrm flipH="1" flipV="1">
            <a:off x="1447920" y="365724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1828800" y="3580920"/>
            <a:ext cx="10666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7" name="Line 7"/>
          <p:cNvSpPr/>
          <p:nvPr/>
        </p:nvSpPr>
        <p:spPr>
          <a:xfrm flipV="1">
            <a:off x="1447920" y="3657240"/>
            <a:ext cx="19047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9E00-BE57-4AEC-84AA-55E7863DAE3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1160" y="914040"/>
            <a:ext cx="443520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Lucida Sans Unicode"/>
              </a:rPr>
              <a:t>Now, we are at level S1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 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50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e split G1 into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and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927680" y="1066680"/>
            <a:ext cx="39862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ountActs(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already in S0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New in S1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 = {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adds all in G</a:t>
            </a:r>
            <a:r>
              <a:rPr b="1" lang="en-US" sz="1800" spc="-1" strike="noStrike" baseline="-25000">
                <a:solidFill>
                  <a:srgbClr val="919191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the new goal: G</a:t>
            </a:r>
            <a:r>
              <a:rPr b="1" lang="en-US" sz="1800" spc="-1" strike="noStrike" baseline="-25000">
                <a:solidFill>
                  <a:srgbClr val="919191"/>
                </a:solidFill>
                <a:latin typeface="Lucida Sans Unicode"/>
              </a:rPr>
              <a:t>P  </a:t>
            </a:r>
            <a:r>
              <a:rPr b="1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 Pre(A)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50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turn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2 + CountActs(G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= 2 + 0 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91440" y="5884920"/>
            <a:ext cx="797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68200" indent="-26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Typewriter"/>
              </a:rPr>
              <a:t>So, in total CountActs(G,S2)=1+2=3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36C8-B259-4C8D-AD3A-D804841DF3C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lanning as a Search Problem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iven a CW-KB representing the initial state, a set of STRIPS or ADL (Action Description Language) operators, and a goal condition we want to achieve (specified either as a conjunction of facts, or as a formula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planning problem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determine a sequence of actions that when applied to the initial CW-KB yield an updated CW-KB which satisfies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0CBA-AEEB-4BD4-809A-BAC92BC32FD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sing the Heuristic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o use CountActions as a heuristic, we build a layered structure from a state S that reaches the goal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hen we CountActions to see how many actions are required in a relaxed pla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We use this count as our heuristic estimate of the distance of S to the goal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his heuristic tends to work better as a best-first search, i.e., when the cost of getting to the current state is ignored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D18D-7EB0-405D-BCF7-061F36FDDB9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dmissi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n optimal length plan in the relaxed problem (actions have no deletes) will be a lower bound on the optimal length of a plan in the real proble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owever, CountActions </a:t>
            </a:r>
            <a:r>
              <a:rPr b="1" lang="en-US" sz="2400" spc="-1" strike="noStrike">
                <a:solidFill>
                  <a:srgbClr val="003366"/>
                </a:solidFill>
                <a:latin typeface="Lucida Sans Unicode"/>
              </a:rPr>
              <a:t>does NOT comput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the length of the optimal relaxed plan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Lucida Sans Unicode"/>
              </a:rPr>
              <a:t>choice of which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Lucida Sans Unicode"/>
              </a:rPr>
              <a:t>action set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to use to achieve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Lucida Sans Unicode"/>
              </a:rPr>
              <a:t>P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(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just achieved part of G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) is not necessarily optimal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fact it is NP-Hard to compute the optimal length plan even in the relaxed plan sp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o CountActions will not be admissibl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36E0-0322-46E0-8E67-AB7D35B9B22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mpiricall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However, empirically refinements of CountActions performs very well on a number of sample planning domain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07DD-4483-4C5C-A9C5-0DDA97E1F0D6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17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WA 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8840" y="1371600"/>
            <a:ext cx="84898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assical Planning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. No incomplete or uncertain knowledg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Use th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osed World Assumptio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in our knowledge representation and reason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40960" indent="-4204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Knowledge base used to represent a state  of the world is a </a:t>
            </a:r>
            <a:r>
              <a:rPr b="1" lang="en-US" sz="2400" spc="-1" strike="noStrike">
                <a:solidFill>
                  <a:srgbClr val="fc0128"/>
                </a:solidFill>
                <a:latin typeface="Lucida Sans Unicode"/>
              </a:rPr>
              <a:t>list of positive ground atomic facts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40960" indent="-4204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WA is the assumption that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61800" indent="-420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a ground atomic fact is not in our list of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know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facts, its negation must be tru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61800" indent="-420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constants mentioned in KB are all the domain object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6D9-9EB7-47AB-BEEB-4E5267F63DF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tate of the Art in Plann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re are annual AI planning systems competitions (e.g. IPC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Planning Domain Definition Language (PDDL) is a standard in the area; has sublanguages with varying expressivenes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everal state of the art (classical) planning systems perform well on large real world problem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1D88-2588-43E2-A569-34819476964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rrent Research in Plann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TRIPS/classical planning makes very strong assumptions: complete information, deterministic actions, static single-agent worl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uch recent work in planning addresses more general forms of planning that avoid such assumption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such cases, a solution may be a branching plan (branching on observations/action outcomes), finite state automaton, or a policy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ierarchical planning/abstraction is useful to address large real world problem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7C09-652C-4D52-B901-5234BC652BD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lanning As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s can be treated as a search probl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initial CW-KB is the initial sta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actions are operators mapping a state (a CW-KB) to a new state (an updated CW-KB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goal is satisfied by any state (CW-KB) that satisfies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466B-50BF-44A2-B9C6-0244F859130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95200" y="253044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95200" y="2992320"/>
            <a:ext cx="858960" cy="46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32080" y="2992320"/>
            <a:ext cx="858600" cy="46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871640" y="2190600"/>
            <a:ext cx="1328760" cy="52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335960" y="1758960"/>
            <a:ext cx="208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(b,c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354480" y="149400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354480" y="195588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3362400" y="101592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2602080" y="3265560"/>
            <a:ext cx="161280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4920" bIns="-3492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350440" y="2833560"/>
            <a:ext cx="208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(c,b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572080" y="255420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4441680" y="303372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5578560" y="303372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374840" y="3538440"/>
            <a:ext cx="1612800" cy="58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43120" y="4141800"/>
            <a:ext cx="1950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(c,table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5227560" y="437364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3105000" y="437040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4241880" y="437040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4037040" y="4932360"/>
            <a:ext cx="1612800" cy="58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436920" y="5587920"/>
            <a:ext cx="1951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(a,b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5743440" y="5297400"/>
            <a:ext cx="858960" cy="4618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743440" y="5759280"/>
            <a:ext cx="858960" cy="4622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6880320" y="5759280"/>
            <a:ext cx="858600" cy="4622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07F-0675-4BCA-90A3-D4B4F64AB4B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roblem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arch tree is generally quite larg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andomly reconfiguring 9 blocks takes thousands of CPU second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e representation suggests some structure. Each action only affects a small set of facts, actions depend on each other via their precondition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lanning algorithms are designed to take advantage of the special nature of the representatio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89DB-6FAA-437A-AD67-0E583AA80ED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lann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 will look at 1 techniqu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laxed Plan heuristics used with heuristic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3B74-4CED-4CF4-A64E-65D1D59750C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ity Analysi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e idea is to consider what happens if we ignore th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delete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lists of action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s is yields a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laxed problem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that can produce a useful heuristic estim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4B8C-5A62-4272-ABCC-8E22D6C72BF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ity Analysi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n the relaxed problem actions add new facts, but never delete fact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en we can do reachability analysis, which is much simpler than searching for a solutio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2CBB-2268-4B97-98D9-955EE02F0F2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e start with the initial state 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e alternate between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layer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e find all actions whose preconditions are contained in 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 These actions comprise the first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 layer A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next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 layer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consists of all of 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s well as the adds of all of the actions in 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general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64920" indent="-2214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is the set of actions whose preconditions are contained in S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64920" indent="-2214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+1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is S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union the add lists of all of the actions in 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7:57:09Z</dcterms:created>
  <dc:creator/>
  <dc:description/>
  <dc:language>en-US</dc:language>
  <cp:lastModifiedBy>Yves Lesperance</cp:lastModifiedBy>
  <cp:lastPrinted>2012-03-09T21:14:41Z</cp:lastPrinted>
  <dcterms:modified xsi:type="dcterms:W3CDTF">2018-11-20T13:14:29Z</dcterms:modified>
  <cp:revision>159</cp:revision>
  <dc:subject/>
  <dc:title>CSC384: Intro to Artificial Intelligence Oct 5th.</dc:title>
</cp:coreProperties>
</file>